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11956"/>
        <c:axId val="48306657"/>
      </c:barChart>
      <c:catAx>
        <c:axId val="93211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06657"/>
        <c:crosses val="autoZero"/>
        <c:auto val="1"/>
        <c:lblAlgn val="ctr"/>
        <c:lblOffset val="100"/>
        <c:noMultiLvlLbl val="0"/>
      </c:catAx>
      <c:valAx>
        <c:axId val="48306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11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5EF-841E-4510-A937-335922D6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9DE-9978-4BB8-90AD-1E073057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43A-086D-46AF-B704-F4B5552A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7BB-6C48-41EB-9A8F-6AE1AD37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A02-29AC-4079-8667-C4F6B30D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1AD-1424-43A0-B538-11AF3334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A5E-D316-4288-ADA9-47F30C80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A17-C931-444E-8EA3-9FAEAF95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1F2-6500-48DD-8C98-446E4DD1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025-0676-4BEE-AD40-6C7A19B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165-E40A-448D-9746-13AD5C88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E81-C2F8-450F-B6E2-4639686D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025E0-6B27-4BA6-B42B-B452A45A2B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