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82226"/>
        <c:axId val="72160623"/>
      </c:barChart>
      <c:catAx>
        <c:axId val="66082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60623"/>
        <c:crosses val="autoZero"/>
        <c:auto val="1"/>
        <c:lblAlgn val="ctr"/>
        <c:lblOffset val="100"/>
        <c:noMultiLvlLbl val="0"/>
      </c:catAx>
      <c:valAx>
        <c:axId val="72160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82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0C1-BF99-4ECC-9131-98EEB91D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662-DD58-4556-8626-7E06F2DE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53C-3E6F-4717-BFE2-B5BE01C6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70D-49E3-4F98-BE89-BFC3A5DC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25A-50A5-4F50-AAE0-371D4F62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218-48F7-441E-94A6-B3A9DFD9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E706-27AD-444D-A2F3-055586A1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A7D-0DF7-4B97-98B0-0C5D7251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4113-0958-4A0C-8B25-098A43A0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9B56-9926-43F8-8212-3C660661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D7C0-6E5F-41A4-B88D-B2550C66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4D1-1D73-4F7C-8DB5-016C764A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3CEA1-C38A-4705-BBB6-CED6C3E8AC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