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05201"/>
        <c:axId val="58421477"/>
      </c:barChart>
      <c:catAx>
        <c:axId val="59305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21477"/>
        <c:crosses val="autoZero"/>
        <c:auto val="1"/>
        <c:lblAlgn val="ctr"/>
        <c:lblOffset val="100"/>
        <c:noMultiLvlLbl val="0"/>
      </c:catAx>
      <c:valAx>
        <c:axId val="58421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05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103-EAC2-40D4-BD71-2B46797C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271-5794-4001-A067-3C19C0E7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DCA-D4B4-4221-B8F0-C5AF3896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E09-3716-4155-9878-7B4E1E62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407-FAA2-4695-A239-DA187EF4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D33-3E3A-4B2C-9FA0-BBC91B5E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524-B453-4376-87D4-D4AA8E5B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7FA2-D295-4825-B831-505E91F9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AC3-B36C-4336-8ECB-BF9591C6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569-D4DA-4654-B10A-CE14B78E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5DC-4641-4959-9202-02CF833E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644-F302-4764-BC3C-22B7F9B6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1CAC2-F715-4D3B-A129-C039B2E53D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